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0A0-E802-4F4F-A84C-D4F02C67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CB4-658F-4BB9-A2FD-27D08002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C63-4BD6-4079-8BD6-A03FFFB9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BA8-11BD-4D0E-B5A4-1EAE5629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4AC-4C91-4B18-9E2A-A1AB3E02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8654-F0AE-451E-A6D4-5A56C17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59AC-C412-48BE-A53C-FFD74DDD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D456-9860-459B-A7EE-B2B62B0D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C12-319F-4E14-B1FE-820FD33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239-A8EE-4DCB-B051-B4A7277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8C9-4B11-4972-AE6A-A97E69C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618-4B50-44B7-8391-78A83B3B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F17A-0100-4D67-9D3F-7B30FD2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15BA-9D4D-49E9-A9A4-735FC30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2862-BE03-4C79-90AA-A3711CFC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BF20-3F69-40BE-84B1-3A37830B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1E71-0E39-4B14-A1F5-CE628F00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84D5A-7F62-4BD2-99D5-3819F1A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E17F5-A156-4087-BBE7-C128649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6EF53-C21F-4130-BDFE-EA5BA30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C6899-832C-465F-AD75-2C5C5E52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ED01A-CD58-4433-A9FE-FD4BD17E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D29-E79F-4DFA-A609-BEE0E68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04BC3-DDD1-4018-ABA1-E72055D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F3ED5-C16E-454D-9ACB-BF1D60F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E64C5-6101-4977-AACD-1F1FDD2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07B96-26B8-42DC-8DA3-84947500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53C96-41C9-4170-A534-439BA03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5F492-7101-4DFF-B2F6-2FD884C2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9611D-7571-4784-95D5-79A3A4B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4EF1-7F09-485C-A65A-44D7B3B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61A6-D2CA-4579-A884-29A77B93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D718-9E84-4E0F-B9FE-179BB7B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8EE-058E-493A-81F4-C13B980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5299-BBBC-4255-8042-8E72082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F64F-521C-4060-A6C7-9989D89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2E0B-8061-4A63-B8A5-7DEA59BE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51FF-1EA9-4BA3-A9B1-EB7F0B7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2AC1-68A1-4EEA-BE7D-52D9472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191A-8C22-46A7-B7D1-2331DFE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BCC4-B761-44D1-BCE5-3220A377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92E7-0759-4EE9-BF89-3DE29C58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4675-C5AA-4616-89F4-7562A2F5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2DD51-2EC2-4C5E-A4F4-82DBF210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200-C995-4C35-AA73-8008FFAE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5E8A7-1B0D-4F09-B2EA-CCF82FFD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E4287-DC75-4AD3-B370-5548D66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0B647-1001-4F59-9361-C5BE416E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22C2E-93BF-47DE-8FD4-DEB1FB43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0C0E5-6D50-4D2F-BBFE-A736D9A7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73032-A2FF-41B7-A1D7-94A4D5D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FC006-79D4-4558-B5D9-B3ACA9D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AD0EE-76C3-41D2-88F6-A799E40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74AB4-2751-48E6-B5BD-4124FBE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5F834-1C5B-4633-8A6A-91CD1A28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1C7-9D13-41BD-B782-8DC5067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B876A-FA8C-4619-A023-45B61259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7446D-3C77-4AE4-8283-9521D5C5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1F5DA-072D-41A6-B98C-2A1064E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CA8E5-5A9E-493B-8FDD-3F515190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5B4C2-743A-4169-8577-C6C9AE12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6EA34-55CD-4C69-842C-F8E57DBC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C0849-A7A3-4441-BBD1-248E3B9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E5D7E-AF88-49B5-AD90-D9FF72B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FE90B-62A0-4587-AD71-01AB809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E0644-8513-47F3-ABDD-5B265AB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AAA-C850-4EA6-AD96-78747A1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DF05F-202E-486D-9851-C24FD66B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2DBF8-C318-4EB7-A964-1DDE9D1A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96F44-E1EB-46B6-B8EC-D536EF43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4A687-8614-45EF-948B-CB91A16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66B6C-CDB0-4978-A7DB-DE82812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A667D-6525-4BFC-8557-4F48405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734C1-9877-4A65-9CF9-20D84D50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0D613-5A32-4C3C-A3B2-816E5EE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B4B6B-A7F3-4BE7-9411-B342DE7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59662-0966-4505-A075-68F6852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FF7-68C2-4806-A62A-6A2A322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61612-A8B5-4CDD-989E-CC9F21A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CBE77-3B64-41F5-B9C2-A8FE4DA7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D09F2-C834-4DFC-8002-C9ED037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67D77-16D3-4D05-92E8-A4AD5561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ADBB6-E54C-4959-BE41-684B0C79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56D-B6EF-43E6-8E6E-8194600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D7FE-2568-430E-B5E9-0D5BD528A2FB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2025-67C3-41E6-8768-E78CEBEBF1A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76C-A0B1-4AA3-809F-87CD4F8B483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CFC-B71E-40D6-9766-63BB05FDE95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6D1-6A1B-42AE-BABB-5C17155E26A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562D-F38F-4918-AD5C-E8E82A6B56D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3D9-BB37-4A55-BA00-9A8D946229E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Tema 25 - Avaliação com o uso das Tecnologias Educacionai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EE.JOSÉ ALVES QUITO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PROGETEC: GEOVANI VILEL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"/>
                <a:ea typeface="Arial"/>
              </a:rPr>
              <a:t>CORGUINHO-M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AVALIAÇÃO COM USO DAS TECNOLOGIA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 uso das tecnologias na avaliação é processo muito importante, porque e traz diversos fatores que somam na aprendizagem dos alun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ção com usos das Tecnologias precisa ser eficaz e monitorada pelo educador, sendo mediante da aprendizagem tecnológi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ORIENTAÇÕES AOS PROFESSOR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erificar o conhecimento de mundo dos alun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tigar os alunos a serem participativ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rabalhar com redes de aprendizagem on-line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envolver a habilidades de produções 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Arial"/>
                <a:ea typeface="Arial"/>
              </a:rPr>
              <a:t>PROCESSO DE AVALIAÇÃO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ção diária 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ocessua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omativ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ormativ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0:32:08Z</dcterms:created>
  <dc:creator>PARTICULAR</dc:creator>
  <dc:description/>
  <dc:language>en-US</dc:language>
  <cp:lastModifiedBy>PARTICULAR</cp:lastModifiedBy>
  <dcterms:modified xsi:type="dcterms:W3CDTF">2015-09-01T00:51:30Z</dcterms:modified>
  <cp:revision>4</cp:revision>
  <dc:subject/>
  <dc:title>Slide 1</dc:title>
</cp:coreProperties>
</file>